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850-924E-4D5F-A7A2-7B738CF1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366-0FD8-4C2F-9105-CE282F39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82C-A49C-4DF3-BA98-A96EA47E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AD6-DE3F-432F-86F5-02827296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55B-4CA4-43DB-B6F5-6C8E2138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B2E-2EE0-4660-AFF7-02367857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C55-756C-44CD-8B89-50EACA8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E5F-3943-4A0B-86DC-29C554C8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609-C0CB-4007-9126-BC7B2400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CCD-B824-4BBB-A4B4-387330A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456-EFC5-4177-8534-506AA692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1AD-961A-48D2-8C10-D6C28A2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6740-D56A-4CE4-9D1B-1226944DE8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2958480"/>
            <a:ext cx="4896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4:51Z</dcterms:modified>
  <cp:revision>698</cp:revision>
  <dc:subject/>
  <dc:title>Diapositiva 1</dc:title>
</cp:coreProperties>
</file>